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4.wmf" ContentType="image/x-wmf"/>
  <Override PartName="/ppt/media/image13.wmf" ContentType="image/x-wmf"/>
  <Override PartName="/ppt/media/image1.png" ContentType="image/png"/>
  <Override PartName="/ppt/media/image2.wmf" ContentType="image/x-wmf"/>
  <Override PartName="/ppt/media/camera.wav" ContentType="audio/x-wav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BF0B-8A20-4623-91B1-FA903625E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A1C4-8A8C-41C8-A813-4F297C4A275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789C-240B-4418-93D5-D7913DEAD1A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A566-7107-4EF5-AA88-0830935F3B1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35D7-B633-4DE0-AFE8-EE5448B6173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AF5A-FF30-4797-B130-8A1878FAE95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785B-51F8-493C-B10D-CAA823B666D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4CBD-5077-41CA-BA12-45EA9A8DFCE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A53A-3FB9-473F-AD6C-3A8E20518D8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A2D6-8901-42ED-A341-E2FF160FF90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DD5B-FD02-436E-9983-E9BA044F514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73F0-BA96-4156-8AEC-A42C267A583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50CC-1821-4A7C-83FF-9ADD47658DB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E50-B764-44B1-B12A-8FFD38DF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4056-DE57-4340-8E89-3AB68B95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8E1-B54B-4FF5-A464-25E31666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A72-BCF4-4057-BC48-D48FAB27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8CEC-36CE-42D2-B8AF-2DB5C236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65D5-6336-4E9F-A44B-A0F91A93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3314-CA2D-4ECE-A6D0-2FB1C51A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C70E-5A9B-42D8-95D5-C655D64D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7FE1-82A8-43EB-8F50-9C773857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0E32-42B9-4732-BDC3-CA070353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C823-4E38-42FC-9F11-F1BDBDB2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EB4F-4F0D-440F-AB54-F1B4A5DC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A4C2-5BE2-4EC8-A6FB-0EC5B483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3052-EF13-4211-9C2D-27322D4A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88FE-5917-42AB-90C7-9DB9607A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15A0-BD55-46CA-9405-5DD80D5B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B66D-DBFD-4FE0-8EA1-818B8EFE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D2F5-C40F-41DE-A49B-4C063D01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96D-390B-4B0E-8A79-C9D2EDD5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1E2-CCD9-47EF-97D0-8D7A3957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29C4-31CC-411E-9E22-2F12518A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C9C-0198-4D80-9E11-70360E65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560-1279-4519-8BF2-4F3AFDAA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4AD-8685-41E5-B80E-22BAF8FF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18FE-7513-4D99-8F85-60E1CA28523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47D5-72A1-476B-BFAC-1ABD2B1F507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DD00-A401-40DD-8564-73F8AD24612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62040" y="1782360"/>
            <a:ext cx="60199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El </a:t>
            </a:r>
            <a:r>
              <a:rPr b="0" lang="en-US" sz="5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br>
              <a:rPr sz="5400"/>
            </a:b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de los verbos</a:t>
            </a:r>
            <a:endParaRPr b="0" lang="en-US" sz="5400" spc="-1" strike="noStrike">
              <a:solidFill>
                <a:srgbClr val="ebd189"/>
              </a:solidFill>
              <a:latin typeface="Comic Sans MS"/>
            </a:endParaRPr>
          </a:p>
        </p:txBody>
      </p:sp>
      <p:pic>
        <p:nvPicPr>
          <p:cNvPr id="110" name="Picture 4" descr="bs01054_"/>
          <p:cNvPicPr/>
          <p:nvPr/>
        </p:nvPicPr>
        <p:blipFill>
          <a:blip r:embed="rId1"/>
          <a:stretch/>
        </p:blipFill>
        <p:spPr>
          <a:xfrm>
            <a:off x="3122640" y="4098960"/>
            <a:ext cx="2973240" cy="2504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81A7-896F-49F0-A2EF-5C0D2A1A3B4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Verbs ending in </a:t>
            </a:r>
            <a:r>
              <a:rPr b="0" i="1" lang="es-ES_tradnl" sz="4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i="1" lang="es-ES_tradnl" sz="4000" spc="-1" strike="noStrike" u="sng">
                <a:solidFill>
                  <a:srgbClr val="ffffff"/>
                </a:solidFill>
                <a:uFillTx/>
                <a:latin typeface="Comic Sans MS"/>
              </a:rPr>
              <a:t>car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, </a:t>
            </a:r>
            <a:r>
              <a:rPr b="0" i="1" lang="es-ES_tradnl" sz="4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i="1" lang="es-ES_tradnl" sz="4000" spc="-1" strike="noStrike" u="sng">
                <a:solidFill>
                  <a:srgbClr val="ffffff"/>
                </a:solidFill>
                <a:uFillTx/>
                <a:latin typeface="Comic Sans MS"/>
              </a:rPr>
              <a:t>gar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, and</a:t>
            </a:r>
            <a:br>
              <a:rPr sz="4000"/>
            </a:br>
            <a:r>
              <a:rPr b="0" i="1" lang="es-ES_tradnl" sz="4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i="1" lang="es-ES_tradnl" sz="4000" spc="-1" strike="noStrike" u="sng">
                <a:solidFill>
                  <a:srgbClr val="ffffff"/>
                </a:solidFill>
                <a:uFillTx/>
                <a:latin typeface="Comic Sans MS"/>
              </a:rPr>
              <a:t>zar</a:t>
            </a:r>
            <a:r>
              <a:rPr b="0" i="1" lang="es-ES_tradnl" sz="4000" spc="-1" strike="noStrike">
                <a:solidFill>
                  <a:srgbClr val="ebd189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 have a spelling change in the “yo” form of the </a:t>
            </a:r>
            <a:r>
              <a:rPr b="0" i="1" lang="es-ES_tradnl" sz="4000" spc="-1" strike="noStrike">
                <a:solidFill>
                  <a:srgbClr val="ebd189"/>
                </a:solidFill>
                <a:latin typeface="Comic Sans MS"/>
              </a:rPr>
              <a:t>pretérito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6019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buscar      tocar        practica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agar        jugar        llega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lmorzar   empezar   comenza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170720" y="533520"/>
            <a:ext cx="58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Unos Irregulares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3" name="Picture 6" descr="pe02106_"/>
          <p:cNvPicPr/>
          <p:nvPr/>
        </p:nvPicPr>
        <p:blipFill>
          <a:blip r:embed="rId1"/>
          <a:stretch/>
        </p:blipFill>
        <p:spPr>
          <a:xfrm>
            <a:off x="6743880" y="4795920"/>
            <a:ext cx="2400120" cy="2062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amera.wav"/>
      </p:stSnd>
    </p:sndAc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5301-AC51-4169-B805-52E02069D69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066680" y="3808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The “yo” form of the </a:t>
            </a:r>
            <a:r>
              <a:rPr b="0" i="1" lang="es-ES_tradnl" sz="4000" spc="-1" strike="noStrike">
                <a:solidFill>
                  <a:srgbClr val="ebd189"/>
                </a:solidFill>
                <a:latin typeface="Comic Sans MS"/>
              </a:rPr>
              <a:t>pretérito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 changes to conserve the </a:t>
            </a:r>
            <a:r>
              <a:rPr b="0" i="1" lang="es-ES_tradnl" sz="4000" spc="-1" strike="noStrike" u="sng">
                <a:solidFill>
                  <a:srgbClr val="ebd189"/>
                </a:solidFill>
                <a:uFillTx/>
                <a:latin typeface="Comic Sans MS"/>
              </a:rPr>
              <a:t>sound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 of the infinitive: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600200" y="3505320"/>
            <a:ext cx="2666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Comic Sans MS"/>
              </a:rPr>
              <a:t>-car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Comic Sans MS"/>
              </a:rPr>
              <a:t>-gar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Comic Sans MS"/>
              </a:rPr>
              <a:t>-zar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809880" y="3505320"/>
            <a:ext cx="3124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-qu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-gu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-c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6095880" y="3505320"/>
            <a:ext cx="1905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toc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jug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rez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69" name="Group 9"/>
          <p:cNvGrpSpPr/>
          <p:nvPr/>
        </p:nvGrpSpPr>
        <p:grpSpPr>
          <a:xfrm>
            <a:off x="6553080" y="3657600"/>
            <a:ext cx="609840" cy="351000"/>
            <a:chOff x="6553080" y="3657600"/>
            <a:chExt cx="609840" cy="351000"/>
          </a:xfrm>
        </p:grpSpPr>
        <p:sp>
          <p:nvSpPr>
            <p:cNvPr id="170" name="Line 7"/>
            <p:cNvSpPr/>
            <p:nvPr/>
          </p:nvSpPr>
          <p:spPr>
            <a:xfrm>
              <a:off x="6553080" y="365760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 flipH="1">
              <a:off x="6553080" y="365760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72" name="Group 10"/>
          <p:cNvGrpSpPr/>
          <p:nvPr/>
        </p:nvGrpSpPr>
        <p:grpSpPr>
          <a:xfrm>
            <a:off x="6553080" y="4373640"/>
            <a:ext cx="609840" cy="350640"/>
            <a:chOff x="6553080" y="4373640"/>
            <a:chExt cx="609840" cy="350640"/>
          </a:xfrm>
        </p:grpSpPr>
        <p:sp>
          <p:nvSpPr>
            <p:cNvPr id="173" name="Line 11"/>
            <p:cNvSpPr/>
            <p:nvPr/>
          </p:nvSpPr>
          <p:spPr>
            <a:xfrm>
              <a:off x="6553080" y="4373640"/>
              <a:ext cx="609840" cy="350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4" name="Line 12"/>
            <p:cNvSpPr/>
            <p:nvPr/>
          </p:nvSpPr>
          <p:spPr>
            <a:xfrm flipH="1">
              <a:off x="6553080" y="4373640"/>
              <a:ext cx="609840" cy="350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75" name="Group 13"/>
          <p:cNvGrpSpPr/>
          <p:nvPr/>
        </p:nvGrpSpPr>
        <p:grpSpPr>
          <a:xfrm>
            <a:off x="6553080" y="4983120"/>
            <a:ext cx="609840" cy="351000"/>
            <a:chOff x="6553080" y="4983120"/>
            <a:chExt cx="609840" cy="351000"/>
          </a:xfrm>
        </p:grpSpPr>
        <p:sp>
          <p:nvSpPr>
            <p:cNvPr id="176" name="Line 14"/>
            <p:cNvSpPr/>
            <p:nvPr/>
          </p:nvSpPr>
          <p:spPr>
            <a:xfrm>
              <a:off x="6553080" y="498312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 flipH="1">
              <a:off x="6553080" y="498312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p:transition spd="med">
    <p:zoom dir="in"/>
    <p:sndAc>
      <p:stSnd>
        <p:snd r:embed="rId1" name="camera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7196-8CB1-4049-B6CB-F278122D345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c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4114800"/>
            <a:ext cx="2133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bus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qu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busc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busc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00040" y="4114800"/>
            <a:ext cx="2438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usc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usc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usc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3" name="Picture 11" descr="bd04974_"/>
          <p:cNvPicPr/>
          <p:nvPr/>
        </p:nvPicPr>
        <p:blipFill>
          <a:blip r:embed="rId1"/>
          <a:stretch/>
        </p:blipFill>
        <p:spPr>
          <a:xfrm>
            <a:off x="1295280" y="304920"/>
            <a:ext cx="1841760" cy="220968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13"/>
          <p:cNvGrpSpPr/>
          <p:nvPr/>
        </p:nvGrpSpPr>
        <p:grpSpPr>
          <a:xfrm>
            <a:off x="6408720" y="3124080"/>
            <a:ext cx="2201760" cy="3350160"/>
            <a:chOff x="6408720" y="3124080"/>
            <a:chExt cx="2201760" cy="3350160"/>
          </a:xfrm>
        </p:grpSpPr>
        <p:sp>
          <p:nvSpPr>
            <p:cNvPr id="185" name="Text Box 8"/>
            <p:cNvSpPr/>
            <p:nvPr/>
          </p:nvSpPr>
          <p:spPr>
            <a:xfrm>
              <a:off x="6773400" y="5892840"/>
              <a:ext cx="140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busc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86" name="Picture 12" descr="bd05609_"/>
            <p:cNvPicPr/>
            <p:nvPr/>
          </p:nvPicPr>
          <p:blipFill>
            <a:blip r:embed="rId2"/>
            <a:stretch/>
          </p:blipFill>
          <p:spPr>
            <a:xfrm>
              <a:off x="6408720" y="3124080"/>
              <a:ext cx="2201760" cy="2847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61F0-D255-4BC7-8D06-E5E5A1129C1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g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ju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gu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jug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jug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jug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jug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jug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2" name="Picture 6" descr="bd07225_"/>
          <p:cNvPicPr/>
          <p:nvPr/>
        </p:nvPicPr>
        <p:blipFill>
          <a:blip r:embed="rId1"/>
          <a:stretch/>
        </p:blipFill>
        <p:spPr>
          <a:xfrm>
            <a:off x="1219320" y="341280"/>
            <a:ext cx="2133360" cy="171612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11"/>
          <p:cNvGrpSpPr/>
          <p:nvPr/>
        </p:nvGrpSpPr>
        <p:grpSpPr>
          <a:xfrm>
            <a:off x="6324480" y="3124080"/>
            <a:ext cx="2422800" cy="3350160"/>
            <a:chOff x="6324480" y="3124080"/>
            <a:chExt cx="2422800" cy="3350160"/>
          </a:xfrm>
        </p:grpSpPr>
        <p:sp>
          <p:nvSpPr>
            <p:cNvPr id="194" name="Text Box 8"/>
            <p:cNvSpPr/>
            <p:nvPr/>
          </p:nvSpPr>
          <p:spPr>
            <a:xfrm>
              <a:off x="6977160" y="589284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jug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95" name="Picture 10" descr="bd05649_"/>
            <p:cNvPicPr/>
            <p:nvPr/>
          </p:nvPicPr>
          <p:blipFill>
            <a:blip r:embed="rId2"/>
            <a:stretch/>
          </p:blipFill>
          <p:spPr>
            <a:xfrm>
              <a:off x="6324480" y="3124080"/>
              <a:ext cx="2422800" cy="2740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7A9C-1A51-4A48-96C9-71681B6E7B0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z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lmor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c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lmorz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lmorz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lmorz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lmorz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lmorz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1" name="Picture 6" descr="bd07225_"/>
          <p:cNvPicPr/>
          <p:nvPr/>
        </p:nvPicPr>
        <p:blipFill>
          <a:blip r:embed="rId1"/>
          <a:stretch/>
        </p:blipFill>
        <p:spPr>
          <a:xfrm>
            <a:off x="1219320" y="341280"/>
            <a:ext cx="2133360" cy="171612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6172200" y="3962520"/>
            <a:ext cx="2755800" cy="2511720"/>
            <a:chOff x="6172200" y="3962520"/>
            <a:chExt cx="2755800" cy="2511720"/>
          </a:xfrm>
        </p:grpSpPr>
        <p:sp>
          <p:nvSpPr>
            <p:cNvPr id="203" name="Text Box 8"/>
            <p:cNvSpPr/>
            <p:nvPr/>
          </p:nvSpPr>
          <p:spPr>
            <a:xfrm>
              <a:off x="6635520" y="5892840"/>
              <a:ext cx="183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almorz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4" name="Picture 10" descr="fd00723_"/>
            <p:cNvPicPr/>
            <p:nvPr/>
          </p:nvPicPr>
          <p:blipFill>
            <a:blip r:embed="rId2"/>
            <a:stretch/>
          </p:blipFill>
          <p:spPr>
            <a:xfrm>
              <a:off x="6172200" y="3962520"/>
              <a:ext cx="2755800" cy="1550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1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2036-8147-4602-A9A3-009CAF7C30A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Dar vs. Ver </a:t>
            </a:r>
            <a:br>
              <a:rPr sz="4400"/>
            </a:br>
            <a:r>
              <a:rPr b="0" lang="en-US" sz="4000" spc="-1" strike="noStrike">
                <a:solidFill>
                  <a:srgbClr val="ebd189"/>
                </a:solidFill>
                <a:latin typeface="Comic Sans MS"/>
              </a:rPr>
              <a:t>the irregular “fraternal twins”</a:t>
            </a:r>
            <a:endParaRPr b="0" lang="en-US" sz="40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Comic Sans MS"/>
              </a:rPr>
              <a:t>Da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 – to giv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di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di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dio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di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di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die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Comic Sans MS"/>
              </a:rPr>
              <a:t>Ve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 – to se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i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i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io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i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i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ie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657600" y="6095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*no accents*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3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3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3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3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3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3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3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3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3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BED0-99BA-44BF-8A56-1924B33D740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Ser vs. Ir</a:t>
            </a:r>
            <a:br>
              <a:rPr sz="4400"/>
            </a:br>
            <a:r>
              <a:rPr b="0" lang="en-US" sz="4000" spc="-1" strike="noStrike">
                <a:solidFill>
                  <a:srgbClr val="ebd189"/>
                </a:solidFill>
                <a:latin typeface="Comic Sans MS"/>
              </a:rPr>
              <a:t>the irregular “identical twins”</a:t>
            </a:r>
            <a:endParaRPr b="0" lang="en-US" sz="40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Comic Sans MS"/>
              </a:rPr>
              <a:t>Se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 – to b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i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i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i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i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e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Comic Sans MS"/>
              </a:rPr>
              <a:t>I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 to go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i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i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i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i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ue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5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0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4000"/>
                            </p:stCondLst>
                            <p:childTnLst>
                              <p:par>
                                <p:cTn id="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49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200"/>
                            </p:stCondLst>
                            <p:childTnLst>
                              <p:par>
                                <p:cTn id="7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500"/>
                            </p:stCondLst>
                            <p:childTnLst>
                              <p:par>
                                <p:cTn id="7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800"/>
                            </p:stCondLst>
                            <p:childTnLst>
                              <p:par>
                                <p:cTn id="7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61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6400"/>
                            </p:stCondLst>
                            <p:childTnLst>
                              <p:par>
                                <p:cTn id="7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3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3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4D57-0526-4903-9456-BAC94E7097D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720" y="4191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I went to the store.</a:t>
            </a:r>
            <a:endParaRPr b="0" lang="en-US" sz="36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I bought a shirt.</a:t>
            </a:r>
            <a:endParaRPr b="0" lang="en-US" sz="36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I paid in cash.</a:t>
            </a:r>
            <a:endParaRPr b="0" lang="en-US" sz="36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1562040" y="22860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El </a:t>
            </a:r>
            <a:r>
              <a:rPr b="0" lang="en-US" sz="5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585440" y="1536840"/>
            <a:ext cx="645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is a </a:t>
            </a:r>
            <a:r>
              <a:rPr b="0" lang="en-US" sz="3600" spc="-1" strike="noStrike" u="sng">
                <a:solidFill>
                  <a:srgbClr val="ebd189"/>
                </a:solidFill>
                <a:uFillTx/>
                <a:latin typeface="Comic Sans MS"/>
              </a:rPr>
              <a:t>past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tense (“-ed”)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talks about </a:t>
            </a:r>
            <a:r>
              <a:rPr b="0" lang="en-US" sz="3600" spc="-1" strike="noStrike" u="sng">
                <a:solidFill>
                  <a:srgbClr val="ebd189"/>
                </a:solidFill>
                <a:uFillTx/>
                <a:latin typeface="Comic Sans MS"/>
              </a:rPr>
              <a:t>what happened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is a </a:t>
            </a:r>
            <a:r>
              <a:rPr b="0" lang="en-US" sz="3600" spc="-1" strike="noStrike" u="sng">
                <a:solidFill>
                  <a:srgbClr val="ebd189"/>
                </a:solidFill>
                <a:uFillTx/>
                <a:latin typeface="Comic Sans MS"/>
              </a:rPr>
              <a:t>completed action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99CC-0C12-40DF-85DA-0A7DE6F40CA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The </a:t>
            </a:r>
            <a:r>
              <a:rPr b="0" i="1" lang="en-US" sz="4400" spc="-1" strike="noStrike">
                <a:solidFill>
                  <a:srgbClr val="ebd189"/>
                </a:solidFill>
                <a:latin typeface="Comic Sans MS"/>
              </a:rPr>
              <a:t>stem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for regular verbs in the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is the infinitive stem.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a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abla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abl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me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m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ebe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eb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bri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br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ali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al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8CD9-CDBD-4FB3-98C7-486871884A5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endings for </a:t>
            </a:r>
            <a:r>
              <a:rPr b="0" i="1" lang="en-US" sz="4400" spc="-1" strike="noStrike">
                <a:solidFill>
                  <a:srgbClr val="ebd189"/>
                </a:solidFill>
                <a:latin typeface="Comic Sans MS"/>
              </a:rPr>
              <a:t>-ar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verbs are: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37339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é     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aste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ó     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30480" y="37339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amo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astei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aron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133720" y="3429000"/>
            <a:ext cx="5105160" cy="29718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B3EA-B604-464C-96F0-3683D174F5D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endings for </a:t>
            </a:r>
            <a:r>
              <a:rPr b="0" i="1" lang="en-US" sz="4400" spc="-1" strike="noStrike">
                <a:solidFill>
                  <a:srgbClr val="ebd189"/>
                </a:solidFill>
                <a:latin typeface="Comic Sans MS"/>
              </a:rPr>
              <a:t>–er / -ir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verbs are: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37339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í     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iste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ió     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30480" y="37339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imo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istei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ieron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2133720" y="3429000"/>
            <a:ext cx="5105160" cy="29718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5D13-D20F-4015-A73B-D453585E6ED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066680" y="304920"/>
            <a:ext cx="3657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Comic Sans MS"/>
              </a:rPr>
              <a:t>REMEMBER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0" name="Picture 3" descr="bs00950_"/>
          <p:cNvPicPr/>
          <p:nvPr/>
        </p:nvPicPr>
        <p:blipFill>
          <a:blip r:embed="rId1"/>
          <a:stretch/>
        </p:blipFill>
        <p:spPr>
          <a:xfrm>
            <a:off x="6781680" y="228600"/>
            <a:ext cx="2163960" cy="2268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1905120" y="2698920"/>
            <a:ext cx="5715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accents on the “yo” form  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and the “él / ella / Ud.”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form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-ar / -ir “nosotros” form is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the same in present and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ebd189"/>
                </a:solidFill>
                <a:latin typeface="Comic Sans MS"/>
              </a:rPr>
              <a:t>pretérito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2" name="camera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E81C-BF8F-4694-8963-C714120B576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1599840"/>
            <a:ext cx="31240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ar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00240" y="4114800"/>
            <a:ext cx="1935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om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om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om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963840" y="4114800"/>
            <a:ext cx="2179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36" name="Picture 5" descr="bd05012_"/>
          <p:cNvPicPr/>
          <p:nvPr/>
        </p:nvPicPr>
        <p:blipFill>
          <a:blip r:embed="rId1"/>
          <a:stretch/>
        </p:blipFill>
        <p:spPr>
          <a:xfrm>
            <a:off x="6934320" y="120600"/>
            <a:ext cx="1779480" cy="15559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1447920" y="2971800"/>
            <a:ext cx="1974600" cy="3578760"/>
            <a:chOff x="1447920" y="2971800"/>
            <a:chExt cx="1974600" cy="3578760"/>
          </a:xfrm>
        </p:grpSpPr>
        <p:pic>
          <p:nvPicPr>
            <p:cNvPr id="139" name="Picture 7" descr="bd05307_"/>
            <p:cNvPicPr/>
            <p:nvPr/>
          </p:nvPicPr>
          <p:blipFill>
            <a:blip r:embed="rId2"/>
            <a:stretch/>
          </p:blipFill>
          <p:spPr>
            <a:xfrm>
              <a:off x="1447920" y="2971800"/>
              <a:ext cx="19746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1793160" y="5969160"/>
              <a:ext cx="129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tom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4427-E344-4EDA-A3AE-3B7DC62F7A2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441972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er / -i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4114800"/>
            <a:ext cx="213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comí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comi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comi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933960" y="4114800"/>
            <a:ext cx="2057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mi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mi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mie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6" name="Picture 10" descr="bd05022_"/>
          <p:cNvPicPr/>
          <p:nvPr/>
        </p:nvPicPr>
        <p:blipFill>
          <a:blip r:embed="rId1"/>
          <a:stretch/>
        </p:blipFill>
        <p:spPr>
          <a:xfrm>
            <a:off x="7010280" y="228600"/>
            <a:ext cx="1874880" cy="17478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12"/>
          <p:cNvGrpSpPr/>
          <p:nvPr/>
        </p:nvGrpSpPr>
        <p:grpSpPr>
          <a:xfrm>
            <a:off x="1219320" y="3200400"/>
            <a:ext cx="2550960" cy="3350160"/>
            <a:chOff x="1219320" y="3200400"/>
            <a:chExt cx="2550960" cy="3350160"/>
          </a:xfrm>
        </p:grpSpPr>
        <p:sp>
          <p:nvSpPr>
            <p:cNvPr id="148" name="Text Box 8"/>
            <p:cNvSpPr/>
            <p:nvPr/>
          </p:nvSpPr>
          <p:spPr>
            <a:xfrm>
              <a:off x="1781640" y="596916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come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49" name="Picture 11" descr="fd00784_"/>
            <p:cNvPicPr/>
            <p:nvPr/>
          </p:nvPicPr>
          <p:blipFill>
            <a:blip r:embed="rId2"/>
            <a:stretch/>
          </p:blipFill>
          <p:spPr>
            <a:xfrm>
              <a:off x="1219320" y="3200400"/>
              <a:ext cx="2550960" cy="2790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DD95-9845-45AD-AC7A-83ECB2D5693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441972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er / -i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4114800"/>
            <a:ext cx="213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brí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bri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bri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933960" y="4114800"/>
            <a:ext cx="2057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bri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bri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brie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5" name="Picture 6" descr="bd05022_"/>
          <p:cNvPicPr/>
          <p:nvPr/>
        </p:nvPicPr>
        <p:blipFill>
          <a:blip r:embed="rId1"/>
          <a:stretch/>
        </p:blipFill>
        <p:spPr>
          <a:xfrm>
            <a:off x="7010280" y="228600"/>
            <a:ext cx="1874880" cy="174780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1447920" y="3124080"/>
            <a:ext cx="2212920" cy="3426480"/>
            <a:chOff x="1447920" y="3124080"/>
            <a:chExt cx="2212920" cy="3426480"/>
          </a:xfrm>
        </p:grpSpPr>
        <p:sp>
          <p:nvSpPr>
            <p:cNvPr id="157" name="Text Box 8"/>
            <p:cNvSpPr/>
            <p:nvPr/>
          </p:nvSpPr>
          <p:spPr>
            <a:xfrm>
              <a:off x="1900800" y="5969160"/>
              <a:ext cx="10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abri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58" name="Picture 10" descr="hh01298_"/>
            <p:cNvPicPr/>
            <p:nvPr/>
          </p:nvPicPr>
          <p:blipFill>
            <a:blip r:embed="rId2"/>
            <a:stretch/>
          </p:blipFill>
          <p:spPr>
            <a:xfrm>
              <a:off x="1447920" y="3124080"/>
              <a:ext cx="2212920" cy="2876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7T16:42:38Z</dcterms:created>
  <dc:creator>olseng</dc:creator>
  <dc:description/>
  <dc:language>en-US</dc:language>
  <cp:lastModifiedBy>jbarber</cp:lastModifiedBy>
  <dcterms:modified xsi:type="dcterms:W3CDTF">2010-09-10T12:48:17Z</dcterms:modified>
  <cp:revision>66</cp:revision>
  <dc:subject/>
  <dc:title>The Preterit</dc:title>
</cp:coreProperties>
</file>